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053C2-760B-4FFD-B9B2-3AB3EDDC0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F15B-B868-4188-A437-A2E9C8EA4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D312-B21B-42B7-8133-41AB80D85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4965-9675-43EC-9D4F-44FBA821EF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39C7-5245-43FA-B34B-3303EA01C4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F1FA-CAD9-466A-9F20-C11ACBA28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CEA0-25AB-46F1-A076-BC41E072F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ABA9-0207-4747-9D86-0CB09197D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047B-E71E-4114-9E02-37AE2B8BF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1A30-4EDC-43E1-A46F-CFD873642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C87D-BF72-4717-AEED-732454973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6F19-594E-4191-842E-48886B00A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D866-F703-42F1-AEEA-492BB5F107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dugains.ca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5986-3FD2-4BF6-81C5-82E0F1D8B2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roportional Reaso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81240"/>
            <a:ext cx="8534160" cy="1509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-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3000"/>
          </a:bodyPr>
          <a:p>
            <a:pPr marL="603720" indent="-567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720" indent="-567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5 minutes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720" indent="-567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CTIVITY: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You are designing the framework for a les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720" indent="-567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ind an expectation (or cluster of expectations) that addresses proportional reasoning in the course you have cho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720" indent="-567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n the chart paper, reco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course code and the curriculum expectation(s) in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learning goal you would have for your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consolidating question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will a good answer look li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dentify the Big Idea as found in the Proportional Reasoning document that fits with your expec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720" indent="-567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e will be looking for volunteers to post their work and receive feedback from the group. (Keep in mind as you work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A49C-AE3D-427A-86B7-D2632C335C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6C14-CDC5-4B4F-9675-7F2E3EB32D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allery Walk -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will view 2-3 pieces of work as a group and provide feedback using these guiding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s the learning goal cl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es it relate back to the Curriculum Expectation? (too much, too litt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ll the Consolidation Question provide an opportunity for students to demonstrate that they have achieved the Learning Go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Volunteers? (Remember – Effective Feedback po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BC37-5CD1-4D26-9CB5-4B3CBC72C4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039A-0F85-42C3-96AD-B330231CC4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- Guiding Questions to Discus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do you see as the important differences between the curriculum expectation and the learning go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y is it important to make this disti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F760-4C0B-4DBD-8AE6-F04ADB6E33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DDEA-86AB-45DA-ADE4-2E66DC646A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uiding Questions to Discus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ould you always state the learning goal at the beginning of the lesson? 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do you consider to be the characteristics of a good consolidating ques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E999-E0F8-42EB-BF0D-72E3488074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DF90-93B8-4A66-B7D0-6B9AE5BBFF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B290-4D97-4BBD-86AF-DC5691744A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1082-B970-4FAA-90AE-F375DBF240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Please sit with your course partner from yesterday’s Venn Diagram activit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e importance of clearly identify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we want students to know (learning go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 will know that they learned it (consolidating ques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designing lesson frameworks by starting with learning goals and consolidating question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ore proportional reasoning concepts in curriculum documents and link to Big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ive and receive effective professional feed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5B3E-43C7-4DA8-A144-B72EB650C3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B287-9728-4353-9405-F3F8CCDDAE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ad the article “The House” individ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nderline what you consider to be the </a:t>
            </a: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nformation in the arti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9871-790E-4D01-9075-65548B7EF7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C844-745D-4A56-97B7-52AB466DFD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-read the article “The House” individually using the information on the orange slip as your l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ighlight what you consider to be the </a:t>
            </a: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nformation in the arti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C532-D8D1-4E0B-B9F2-97743F6954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29DA-58F6-4421-9965-FD5B2C0614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the TOP 3 key features of the house – based on your lens. Come to consensus at your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prepared to share and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just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36B4-1E58-409A-8D48-0B1DA0694C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17B8-9574-46B3-BF46-9D2B3BE1E5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are the ‘lens’ that your table was assigne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are your TOP 3 key features of the house with jus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does this activity relate to building Learning Goals and Consolidating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F626-1599-4465-8BCC-5621E7EF7F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83A3-B67E-4F2C-8D29-6F656E160A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Big Ideas and Proportional Reasoning K-1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resource on EduGAINS provides us with samples of how to create and connect Big Ideas, Curriculum Expectations, Learning Goals and Consolidation Question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dugains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CA" sz="2000" spc="-1" strike="noStrike">
                <a:solidFill>
                  <a:srgbClr val="000000"/>
                </a:solidFill>
                <a:latin typeface="Arial"/>
              </a:rPr>
              <a:t>Math GAI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i="1" lang="en-CA" sz="2000" spc="-1" strike="noStrike">
                <a:solidFill>
                  <a:srgbClr val="0000ff"/>
                </a:solidFill>
                <a:latin typeface="Arial"/>
                <a:ea typeface="Arial"/>
              </a:rPr>
              <a:t>Continuum and Connectio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→ </a:t>
            </a:r>
            <a:r>
              <a:rPr b="1" i="1" lang="en-CA" sz="2000" spc="-1" strike="noStrike">
                <a:solidFill>
                  <a:srgbClr val="ff0000"/>
                </a:solidFill>
                <a:latin typeface="Arial"/>
                <a:ea typeface="Arial"/>
              </a:rPr>
              <a:t>Big Ideas and Proportional Reasoning K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03DC-9BF1-4ED1-B2DD-61137A450E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0043-1A68-4981-92E9-7B69DFC3F9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3886200"/>
            <a:ext cx="3733920" cy="990720"/>
          </a:xfrm>
          <a:prstGeom prst="cloudCallout">
            <a:avLst>
              <a:gd name="adj1" fmla="val -32907"/>
              <a:gd name="adj2" fmla="val 68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et’s take a look toget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t materials you will need: Chart Paper, Markers, Curriculum Document (hardcopy or online), access to Edu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a space to work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A52A-B8EB-4096-AF30-72CDD3A0EA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C361-D7EA-4271-A881-3966AF7763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19T02:58:07Z</dcterms:modified>
  <cp:revision>45</cp:revision>
  <dc:subject/>
  <dc:title>&lt;Title&gt;</dc:title>
</cp:coreProperties>
</file>